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84646"/>
        <c:axId val="22058735"/>
      </c:barChart>
      <c:catAx>
        <c:axId val="45584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58735"/>
        <c:crosses val="autoZero"/>
        <c:auto val="1"/>
        <c:lblAlgn val="ctr"/>
        <c:lblOffset val="100"/>
        <c:noMultiLvlLbl val="0"/>
      </c:catAx>
      <c:valAx>
        <c:axId val="22058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84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C8A3-D6E8-497C-A8C1-E85904DD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CE3-D75C-4D3C-89C0-CD35E910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728-4315-4407-A490-FE87C51A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211-326B-42D6-907A-EA556053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78E-40D2-4786-BF36-E4AA323F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A05-A805-4EDD-95C5-89DD257D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DF6-9B3B-44EA-97C3-F2DA1470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70A-50FF-4259-9C77-9A6055E2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EB8-67A9-429F-9922-0CA1E712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077-A102-474C-88CF-832F8D17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9BC-FC30-4582-BA0D-A69FDC90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25A-1173-4445-B419-0C3D6422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D081C-9E25-45A9-9445-4CB0D30CBD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