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69992"/>
        <c:axId val="8165891"/>
      </c:barChart>
      <c:catAx>
        <c:axId val="36869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891"/>
        <c:crosses val="autoZero"/>
        <c:auto val="1"/>
        <c:lblAlgn val="ctr"/>
        <c:lblOffset val="100"/>
        <c:noMultiLvlLbl val="0"/>
      </c:catAx>
      <c:valAx>
        <c:axId val="8165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9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245-C09A-47F5-B407-FC81038A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C8F-AE00-4F9D-B7E4-FE5D664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9E4-1B03-4C40-9525-B834921D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0F5-7181-45D6-8E8F-46AD1167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62D-39AB-4D1F-B182-02B2A51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230-3007-4719-B6FB-39E1E400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1EF-686B-40B6-8836-6898BC6C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7F2-F7B6-45F4-9ED0-3C55721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CE2-F387-4E23-8C1F-7673705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F5-F96C-4658-A40B-C430CED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F67-6ED8-475F-B12F-C4E945C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DF4-5143-4483-B6CF-29D07D1D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94706-EF30-41DE-928C-0B8691129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