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10421"/>
        <c:axId val="95418386"/>
      </c:barChart>
      <c:catAx>
        <c:axId val="48610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18386"/>
        <c:crosses val="autoZero"/>
        <c:auto val="1"/>
        <c:lblAlgn val="ctr"/>
        <c:lblOffset val="100"/>
        <c:noMultiLvlLbl val="0"/>
      </c:catAx>
      <c:valAx>
        <c:axId val="95418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10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A5A-0856-45FB-8A06-A586B83A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61E-D09E-4609-8C94-E77AEF25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5CA-9F0E-4D0A-98EB-D56FB4AD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0C4-CEC8-4C6C-B00B-50E8C8C0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746-650F-4BBF-8B09-0BA467DD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C75-6F94-440D-8C3D-B180E12C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026-F6C8-4B8E-8511-EB6C31F8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DC1-DFB0-4AD2-AC99-F8495E08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255-705B-4103-9A40-BCFA4766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C93-284D-4E6D-B7DD-BF2A1C45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204-1E74-4A01-A0C8-15D6FCA0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D2A-69E3-4DAF-9B22-4ABE2749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3053A-52E3-4D78-BC72-8E26B8AFAF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