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21732"/>
        <c:axId val="82175560"/>
      </c:barChart>
      <c:catAx>
        <c:axId val="65921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75560"/>
        <c:crosses val="autoZero"/>
        <c:auto val="1"/>
        <c:lblAlgn val="ctr"/>
        <c:lblOffset val="100"/>
        <c:noMultiLvlLbl val="0"/>
      </c:catAx>
      <c:valAx>
        <c:axId val="82175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21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CC2-C0D4-4C29-A762-472E5C22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A30-9441-42A8-8956-DD167E7E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4DF-6E79-44B1-BEED-64C93DCB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402-0C40-482A-9467-58FDA550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172-8A75-43FA-A1BC-F52C4E7A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A1B-9B3B-4D18-8D4F-D64F90F3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A4A-1D7C-4721-BF61-BF966CA6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C60-57D4-41C5-BE10-454A9133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B3C-2BA9-4AA1-8C88-EB83409F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C77-CE8C-43A1-BAE9-36B1F2EA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4EA-51A4-4B3A-96A8-141C692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8FD-3F6F-4995-9E61-1C7F842B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97E29-37BF-45EE-B158-92D0C4BA00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