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524709"/>
        <c:axId val="70517191"/>
      </c:barChart>
      <c:catAx>
        <c:axId val="845247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517191"/>
        <c:crosses val="autoZero"/>
        <c:auto val="1"/>
        <c:lblAlgn val="ctr"/>
        <c:lblOffset val="100"/>
        <c:noMultiLvlLbl val="0"/>
      </c:catAx>
      <c:valAx>
        <c:axId val="705171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5247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69F0-89CB-45AE-858C-C2EAE92F6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F862-B0A3-4B05-A361-29A9E84CB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985D-BEDB-4B0F-BBEE-18392685C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323D-9C72-4224-9E5D-DFA5BF97F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DD24-9327-4239-834B-B8B824947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1AEB-F601-4C2A-8DA2-3F0E5CB8D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3D4B-469B-418F-B67D-0C7732EA9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B586-D0DA-4A48-AF02-233034FA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0818-4C4C-409E-ABEE-B8C9048BB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6E64-6CFD-4D83-8E12-735B3C84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06EE-440A-47E8-A7EE-D9911A92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AB12-355A-49CB-B093-95B7228E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67CCE3-2C32-42EC-9DA7-27A1802351B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