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94452"/>
        <c:axId val="3405044"/>
      </c:barChart>
      <c:catAx>
        <c:axId val="73394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5044"/>
        <c:crosses val="autoZero"/>
        <c:auto val="1"/>
        <c:lblAlgn val="ctr"/>
        <c:lblOffset val="100"/>
        <c:noMultiLvlLbl val="0"/>
      </c:catAx>
      <c:valAx>
        <c:axId val="3405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94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CBB-8F12-4118-97CE-57289755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BE8-A407-4A9B-A169-DFB0AAD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686-3F9D-480D-833F-8CA39953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9FB-8162-463B-9981-A60C9E9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252-1B15-4F6C-811D-F0B55992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29B-FEA9-4896-B544-9960A8AC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487-AFEB-4423-9792-B7D2E56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B80-D351-4ABC-A9C2-5155E28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DBD-662F-4F16-8268-1CF9E16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F38-7E86-4E7D-87C0-501D62F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C9B-9ABD-4F56-933D-E8D8BD0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65F-E571-41C8-B95B-AA02B81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5A459-DF29-48BB-A3C1-289EF2440C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